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04D6-1CAA-4CF5-9BBC-1E626EFFB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B11A-0C0E-4333-AD41-DC7ACB8F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ABC6-2F0F-4E17-82D0-DE7BDAC42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DE2C-54A8-4486-9ED4-30E2EF92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58FD-E870-4CB9-8A3F-40ACFC86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75F9-E5F5-4FAA-A13F-3D8D986E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8970-07AF-4AF6-ACF0-4682B2C3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0A52-A7CF-45CD-9FA2-A26851A9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5CB8-04C5-4174-AB05-A224B003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FBC3-3373-4883-9D48-EAC2D1C8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9D7B-9FFD-4EAB-92B9-87A8B08F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2AD1-20A8-408D-8FF0-6C2E25FE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0CE4-5FE4-4E76-92D6-F1820F9860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rds.yahoo.com/_ylt=A0geu5_xoS5LlOAAzfhXNyoA;_ylu=X3oDMTBzajdmcTJzBHNlYwNzYwRjb2xvA2FjMgR2dGlkA0RGRDVfODM-/SIG=1j836t3hq/EXP=1261433713/**http%3A//images.search.yahoo.com/images/view%3Fback=http%253A%252F%252Fsearch.yahoo.com%252Fsearch%253Fei%253DUTF-8%2526p%253Dassembly%252Bline%252Bphoto%26w=500%26h=408%26imgurl=honors.rit.edu%252Famitraywiki%252Fimages%252F8%252F8f%252FAssembly.jpg%26size=63.3kB%26name=Assembly%2Bjpg%26rcurl=http%253A%252F%252Fwww.encyclopedia.com%252Ftopic%252Fassembly_line.aspx%26rurl=http%253A%252F%252Fwww.encyclopedia.com%252Ftopic%252Fassembly_line.aspx%26p=assembly%2Bline%26type=jpeg%26no=1%26tt=128%252C845%26oid=335a859a9e417ddc%26tit=Assembly%2Bjpg%26sigr=11kc6hb6c%26sigi=11jp0kjdj%26sigb=11tqu1oqr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d1ed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ime Line Project fo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volution of Educational Technology in Society, Education, and the Workplace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structor: Alan Fole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3341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d by Tabitha Eden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C:\Users\tabitha\AppData\Local\Microsoft\Windows\Temporary Internet Files\Content.IE5\4B7I1KDH\MPj03905720000[1].jpg"/>
          <p:cNvPicPr/>
          <p:nvPr/>
        </p:nvPicPr>
        <p:blipFill>
          <a:blip r:embed="rId2"/>
          <a:stretch/>
        </p:blipFill>
        <p:spPr>
          <a:xfrm>
            <a:off x="6553080" y="4419720"/>
            <a:ext cx="1447920" cy="1033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ondi"/>
              </a:rPr>
              <a:t>Toffler’s Wave Theo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eft-Right Arrow 3"/>
          <p:cNvSpPr/>
          <p:nvPr/>
        </p:nvSpPr>
        <p:spPr>
          <a:xfrm>
            <a:off x="0" y="3200400"/>
            <a:ext cx="9144000" cy="45720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0" y="3886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ondi"/>
              </a:rPr>
              <a:t>Agricultural 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Flowchart: Process 9"/>
          <p:cNvSpPr/>
          <p:nvPr/>
        </p:nvSpPr>
        <p:spPr>
          <a:xfrm>
            <a:off x="609480" y="2971800"/>
            <a:ext cx="76320" cy="914400"/>
          </a:xfrm>
          <a:prstGeom prst="flowChartProcess">
            <a:avLst/>
          </a:prstGeom>
          <a:solidFill>
            <a:srgbClr val="0070c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Flowchart: Process 10"/>
          <p:cNvSpPr/>
          <p:nvPr/>
        </p:nvSpPr>
        <p:spPr>
          <a:xfrm>
            <a:off x="4419720" y="2971800"/>
            <a:ext cx="75960" cy="914400"/>
          </a:xfrm>
          <a:prstGeom prst="flowChartProcess">
            <a:avLst/>
          </a:prstGeom>
          <a:solidFill>
            <a:srgbClr val="0070c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lowchart: Process 11"/>
          <p:cNvSpPr/>
          <p:nvPr/>
        </p:nvSpPr>
        <p:spPr>
          <a:xfrm>
            <a:off x="6172200" y="2971800"/>
            <a:ext cx="76320" cy="914400"/>
          </a:xfrm>
          <a:prstGeom prst="flowChartProcess">
            <a:avLst/>
          </a:prstGeom>
          <a:solidFill>
            <a:srgbClr val="0070c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lowchart: Process 12"/>
          <p:cNvSpPr/>
          <p:nvPr/>
        </p:nvSpPr>
        <p:spPr>
          <a:xfrm>
            <a:off x="7772400" y="2971800"/>
            <a:ext cx="76320" cy="914400"/>
          </a:xfrm>
          <a:prstGeom prst="flowChartProcess">
            <a:avLst/>
          </a:prstGeom>
          <a:solidFill>
            <a:srgbClr val="0070c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3"/>
          <p:cNvSpPr/>
          <p:nvPr/>
        </p:nvSpPr>
        <p:spPr>
          <a:xfrm>
            <a:off x="3352680" y="3886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ondi"/>
              </a:rPr>
              <a:t>Industrial 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4"/>
          <p:cNvSpPr/>
          <p:nvPr/>
        </p:nvSpPr>
        <p:spPr>
          <a:xfrm>
            <a:off x="5181480" y="3886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ondi"/>
              </a:rPr>
              <a:t>Information 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5"/>
          <p:cNvSpPr/>
          <p:nvPr/>
        </p:nvSpPr>
        <p:spPr>
          <a:xfrm>
            <a:off x="6934320" y="38862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ondi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ond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ondi"/>
              </a:rPr>
              <a:t>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7"/>
          <p:cNvSpPr/>
          <p:nvPr/>
        </p:nvSpPr>
        <p:spPr>
          <a:xfrm>
            <a:off x="0" y="21337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8000 B.C. –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pprox. 1750 A.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8"/>
          <p:cNvSpPr/>
          <p:nvPr/>
        </p:nvSpPr>
        <p:spPr>
          <a:xfrm>
            <a:off x="3657600" y="2133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750 –195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9"/>
          <p:cNvSpPr/>
          <p:nvPr/>
        </p:nvSpPr>
        <p:spPr>
          <a:xfrm>
            <a:off x="5334120" y="2133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955 -  Pres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20"/>
          <p:cNvSpPr/>
          <p:nvPr/>
        </p:nvSpPr>
        <p:spPr>
          <a:xfrm>
            <a:off x="7010280" y="182880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 begin between the next 5-10 yea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onors.rit.edu/amitraywiki/images/8/8f/Assembly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71800" y="4495680"/>
            <a:ext cx="1009800" cy="819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www.sonofthesouth.net/leefoundation/civil-war/1862/november/salt-factory.jpg"/>
          <p:cNvPicPr/>
          <p:nvPr/>
        </p:nvPicPr>
        <p:blipFill>
          <a:blip r:embed="rId5"/>
          <a:stretch/>
        </p:blipFill>
        <p:spPr>
          <a:xfrm>
            <a:off x="4038480" y="4495680"/>
            <a:ext cx="122868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ttp://www.ohgen.net/ohathens/eckfam.gif"/>
          <p:cNvPicPr/>
          <p:nvPr/>
        </p:nvPicPr>
        <p:blipFill>
          <a:blip r:embed="rId6"/>
          <a:stretch/>
        </p:blipFill>
        <p:spPr>
          <a:xfrm>
            <a:off x="3352680" y="5334120"/>
            <a:ext cx="1943280" cy="1304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C:\Users\tabitha\AppData\Local\Microsoft\Windows\Temporary Internet Files\Content.IE5\2LLY4F5Q\MPj04331850000[1].jpg"/>
          <p:cNvPicPr/>
          <p:nvPr/>
        </p:nvPicPr>
        <p:blipFill>
          <a:blip r:embed="rId7"/>
          <a:stretch/>
        </p:blipFill>
        <p:spPr>
          <a:xfrm>
            <a:off x="380880" y="4495680"/>
            <a:ext cx="1428840" cy="2133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Users\tabitha\AppData\Local\Microsoft\Windows\Temporary Internet Files\Content.IE5\68H9VII4\MPj02892030000[1].jpg"/>
          <p:cNvPicPr/>
          <p:nvPr/>
        </p:nvPicPr>
        <p:blipFill>
          <a:blip r:embed="rId8"/>
          <a:stretch/>
        </p:blipFill>
        <p:spPr>
          <a:xfrm>
            <a:off x="5638680" y="4800600"/>
            <a:ext cx="1150920" cy="905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Users\tabitha\AppData\Local\Microsoft\Windows\Temporary Internet Files\Content.IE5\4B7I1KDH\MPj04432530000[1].jpg"/>
          <p:cNvPicPr/>
          <p:nvPr/>
        </p:nvPicPr>
        <p:blipFill>
          <a:blip r:embed="rId9"/>
          <a:stretch/>
        </p:blipFill>
        <p:spPr>
          <a:xfrm>
            <a:off x="7772400" y="4572000"/>
            <a:ext cx="171756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tabitha\AppData\Local\Microsoft\Windows\Temporary Internet Files\Content.IE5\2LLY4F5Q\MPj04387620000[1].jpg"/>
          <p:cNvPicPr/>
          <p:nvPr/>
        </p:nvPicPr>
        <p:blipFill>
          <a:blip r:embed="rId10"/>
          <a:stretch/>
        </p:blipFill>
        <p:spPr>
          <a:xfrm>
            <a:off x="7315200" y="5638680"/>
            <a:ext cx="1695600" cy="1219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C:\Users\tabitha\AppData\Local\Microsoft\Windows\Temporary Internet Files\Content.IE5\2LLY4F5Q\MPj04442560000[1].jpg"/>
          <p:cNvPicPr/>
          <p:nvPr/>
        </p:nvPicPr>
        <p:blipFill>
          <a:blip r:embed="rId11"/>
          <a:stretch/>
        </p:blipFill>
        <p:spPr>
          <a:xfrm>
            <a:off x="6324480" y="5619600"/>
            <a:ext cx="822600" cy="1238400"/>
          </a:xfrm>
          <a:prstGeom prst="rect">
            <a:avLst/>
          </a:prstGeom>
          <a:ln w="0">
            <a:noFill/>
          </a:ln>
        </p:spPr>
      </p:pic>
      <p:sp>
        <p:nvSpPr>
          <p:cNvPr id="66" name="TextBox 28"/>
          <p:cNvSpPr/>
          <p:nvPr/>
        </p:nvSpPr>
        <p:spPr>
          <a:xfrm>
            <a:off x="6019920" y="6211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Not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0T22:33:37Z</dcterms:created>
  <dc:creator>tabitha</dc:creator>
  <dc:description/>
  <dc:language>en-US</dc:language>
  <cp:lastModifiedBy>tabitha</cp:lastModifiedBy>
  <dcterms:modified xsi:type="dcterms:W3CDTF">2009-12-20T22:48:22Z</dcterms:modified>
  <cp:revision>4</cp:revision>
  <dc:subject/>
  <dc:title>Time Line Project for Evolution of Educational Technology in Society, Education, and the Workplace  Instructor: Alan Foley</dc:title>
</cp:coreProperties>
</file>