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101-BC00-488C-9CF3-A92C4DF8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487-7DC1-449F-A052-0AC7077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46A-63B3-4425-B97A-FEE4D8EC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8C3-B62A-42B3-9DB8-4A989B90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A82-62A9-49B6-8B89-47C501F5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861-B931-42D9-8601-E18D4996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80A-A02F-4F1C-B66C-CBCDA2C2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457-259D-43D5-B357-538BE34E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469-ADEE-4A07-9237-018D001B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EF9-3E83-4C3E-A69D-078D0BC6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AD3-6377-47F1-923B-E7F2AEA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4CA-1C30-40A3-928B-C81F289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E0F4-5DF9-4888-8E25-304CBAD48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0geu5_xoS5LlOAAzfhXNyoA;_ylu=X3oDMTBzajdmcTJzBHNlYwNzYwRjb2xvA2FjMgR2dGlkA0RGRDVfODM-/SIG=1j836t3hq/EXP=1261433713/**http%3A//images.search.yahoo.com/images/view%3Fback=http%253A%252F%252Fsearch.yahoo.com%252Fsearch%253Fei%253DUTF-8%2526p%253Dassembly%252Bline%252Bphoto%26w=500%26h=408%26imgurl=honors.rit.edu%252Famitraywiki%252Fimages%252F8%252F8f%252FAssembly.jpg%26size=63.3kB%26name=Assembly%2Bjpg%26rcurl=http%253A%252F%252Fwww.encyclopedia.com%252Ftopic%252Fassembly_line.aspx%26rurl=http%253A%252F%252Fwww.encyclopedia.com%252Ftopic%252Fassembly_line.aspx%26p=assembly%2Bline%26type=jpeg%26no=1%26tt=128%252C845%26oid=335a859a9e417ddc%26tit=Assembly%2Bjpg%26sigr=11kc6hb6c%26sigi=11jp0kjdj%26sigb=11tqu1oqr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Line Project 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Educational Technology in Society, Education, and the Workpla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or: Alan Fol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by Tabitha Eden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:\Users\tabitha\AppData\Local\Microsoft\Windows\Temporary Internet Files\Content.IE5\4B7I1KDH\MPj03905720000[1].jpg"/>
          <p:cNvPicPr/>
          <p:nvPr/>
        </p:nvPicPr>
        <p:blipFill>
          <a:blip r:embed="rId2"/>
          <a:stretch/>
        </p:blipFill>
        <p:spPr>
          <a:xfrm>
            <a:off x="6553080" y="4419720"/>
            <a:ext cx="1447920" cy="103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ondi"/>
              </a:rPr>
              <a:t>Toffler’s Wave The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-Right Arrow 3"/>
          <p:cNvSpPr/>
          <p:nvPr/>
        </p:nvSpPr>
        <p:spPr>
          <a:xfrm>
            <a:off x="0" y="3200400"/>
            <a:ext cx="91440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ricultur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lowchart: Process 9"/>
          <p:cNvSpPr/>
          <p:nvPr/>
        </p:nvSpPr>
        <p:spPr>
          <a:xfrm>
            <a:off x="60948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owchart: Process 10"/>
          <p:cNvSpPr/>
          <p:nvPr/>
        </p:nvSpPr>
        <p:spPr>
          <a:xfrm>
            <a:off x="4419720" y="2971800"/>
            <a:ext cx="7596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owchart: Process 11"/>
          <p:cNvSpPr/>
          <p:nvPr/>
        </p:nvSpPr>
        <p:spPr>
          <a:xfrm>
            <a:off x="61722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owchart: Process 12"/>
          <p:cNvSpPr/>
          <p:nvPr/>
        </p:nvSpPr>
        <p:spPr>
          <a:xfrm>
            <a:off x="77724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3526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dustri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1814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formation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93432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0 B.C.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rox. 1750 A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365760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50 –19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341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55 -  Pres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7010280" y="1828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begin between the next 5-1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onors.rit.edu/amitraywiki/images/8/8f/Assemb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495680"/>
            <a:ext cx="1009800" cy="8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www.sonofthesouth.net/leefoundation/civil-war/1862/november/salt-factory.jpg"/>
          <p:cNvPicPr/>
          <p:nvPr/>
        </p:nvPicPr>
        <p:blipFill>
          <a:blip r:embed="rId5"/>
          <a:stretch/>
        </p:blipFill>
        <p:spPr>
          <a:xfrm>
            <a:off x="4038480" y="449568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ohgen.net/ohathens/eckfam.gif"/>
          <p:cNvPicPr/>
          <p:nvPr/>
        </p:nvPicPr>
        <p:blipFill>
          <a:blip r:embed="rId6"/>
          <a:stretch/>
        </p:blipFill>
        <p:spPr>
          <a:xfrm>
            <a:off x="3352680" y="53341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tabitha\AppData\Local\Microsoft\Windows\Temporary Internet Files\Content.IE5\2LLY4F5Q\MPj04331850000[1].jpg"/>
          <p:cNvPicPr/>
          <p:nvPr/>
        </p:nvPicPr>
        <p:blipFill>
          <a:blip r:embed="rId7"/>
          <a:stretch/>
        </p:blipFill>
        <p:spPr>
          <a:xfrm>
            <a:off x="380880" y="4495680"/>
            <a:ext cx="142884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tabitha\AppData\Local\Microsoft\Windows\Temporary Internet Files\Content.IE5\68H9VII4\MPj02892030000[1].jpg"/>
          <p:cNvPicPr/>
          <p:nvPr/>
        </p:nvPicPr>
        <p:blipFill>
          <a:blip r:embed="rId8"/>
          <a:stretch/>
        </p:blipFill>
        <p:spPr>
          <a:xfrm>
            <a:off x="5638680" y="480060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tabitha\AppData\Local\Microsoft\Windows\Temporary Internet Files\Content.IE5\4B7I1KDH\MPj04432530000[1].jpg"/>
          <p:cNvPicPr/>
          <p:nvPr/>
        </p:nvPicPr>
        <p:blipFill>
          <a:blip r:embed="rId9"/>
          <a:stretch/>
        </p:blipFill>
        <p:spPr>
          <a:xfrm>
            <a:off x="7772400" y="4572000"/>
            <a:ext cx="17175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abitha\AppData\Local\Microsoft\Windows\Temporary Internet Files\Content.IE5\2LLY4F5Q\MPj04387620000[1].jpg"/>
          <p:cNvPicPr/>
          <p:nvPr/>
        </p:nvPicPr>
        <p:blipFill>
          <a:blip r:embed="rId10"/>
          <a:stretch/>
        </p:blipFill>
        <p:spPr>
          <a:xfrm>
            <a:off x="7315200" y="5638680"/>
            <a:ext cx="16956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tabitha\AppData\Local\Microsoft\Windows\Temporary Internet Files\Content.IE5\2LLY4F5Q\MPj04442560000[1].jpg"/>
          <p:cNvPicPr/>
          <p:nvPr/>
        </p:nvPicPr>
        <p:blipFill>
          <a:blip r:embed="rId11"/>
          <a:stretch/>
        </p:blipFill>
        <p:spPr>
          <a:xfrm>
            <a:off x="6324480" y="5619600"/>
            <a:ext cx="822600" cy="123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6019920" y="621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2:33:37Z</dcterms:created>
  <dc:creator>tabitha</dc:creator>
  <dc:description/>
  <dc:language>en-US</dc:language>
  <cp:lastModifiedBy>tabitha</cp:lastModifiedBy>
  <dcterms:modified xsi:type="dcterms:W3CDTF">2009-12-20T22:48:22Z</dcterms:modified>
  <cp:revision>4</cp:revision>
  <dc:subject/>
  <dc:title>Time Line Project for Evolution of Educational Technology in Society, Education, and the Workplace  Instructor: Alan Foley</dc:title>
</cp:coreProperties>
</file>