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260-9C5D-4EEE-896A-6D54A080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810-E490-414A-BFA9-165F8000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FED-C259-41B7-9128-A32C4750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85B-0F6C-487B-B685-5DA45DBC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A44-39C0-449C-B0C5-161958D1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00D4-9656-4368-97D1-955283FD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697-1894-485A-9CE0-30C3F568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8A9-0C56-4E61-9C6D-D8AD0EB6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955-6A3E-4E52-BEBD-BD5CA17D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63E-3A91-4BA8-AF6E-DDD16C42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5D7-4861-4226-9FCD-60365BB7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4FD-3410-48A7-A921-834A8EF3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1DD1-B0BE-4074-B4D7-FAE7DF0FD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rds.yahoo.com/_ylt=A0geu5_xoS5LlOAAzfhXNyoA;_ylu=X3oDMTBzajdmcTJzBHNlYwNzYwRjb2xvA2FjMgR2dGlkA0RGRDVfODM-/SIG=1j836t3hq/EXP=1261433713/**http%3A//images.search.yahoo.com/images/view%3Fback=http%253A%252F%252Fsearch.yahoo.com%252Fsearch%253Fei%253DUTF-8%2526p%253Dassembly%252Bline%252Bphoto%26w=500%26h=408%26imgurl=honors.rit.edu%252Famitraywiki%252Fimages%252F8%252F8f%252FAssembly.jpg%26size=63.3kB%26name=Assembly%2Bjpg%26rcurl=http%253A%252F%252Fwww.encyclopedia.com%252Ftopic%252Fassembly_line.aspx%26rurl=http%253A%252F%252Fwww.encyclopedia.com%252Ftopic%252Fassembly_line.aspx%26p=assembly%2Bline%26type=jpeg%26no=1%26tt=128%252C845%26oid=335a859a9e417ddc%26tit=Assembly%2Bjpg%26sigr=11kc6hb6c%26sigi=11jp0kjdj%26sigb=11tqu1oqr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me Line Project f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olution of Educational Technology in Society, Education, and the Workplac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ctor: Alan Fol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3341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d by Tabitha Eden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C:\Users\tabitha\AppData\Local\Microsoft\Windows\Temporary Internet Files\Content.IE5\4B7I1KDH\MPj03905720000[1].jpg"/>
          <p:cNvPicPr/>
          <p:nvPr/>
        </p:nvPicPr>
        <p:blipFill>
          <a:blip r:embed="rId2"/>
          <a:stretch/>
        </p:blipFill>
        <p:spPr>
          <a:xfrm>
            <a:off x="6553080" y="4419720"/>
            <a:ext cx="1447920" cy="1033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ondi"/>
              </a:rPr>
              <a:t>Toffler’s Wave The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eft-Right Arrow 3"/>
          <p:cNvSpPr/>
          <p:nvPr/>
        </p:nvSpPr>
        <p:spPr>
          <a:xfrm>
            <a:off x="0" y="3200400"/>
            <a:ext cx="9144000" cy="457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0" y="3886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Agricultural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lowchart: Process 9"/>
          <p:cNvSpPr/>
          <p:nvPr/>
        </p:nvSpPr>
        <p:spPr>
          <a:xfrm>
            <a:off x="609480" y="2971800"/>
            <a:ext cx="76320" cy="914400"/>
          </a:xfrm>
          <a:prstGeom prst="flowChartProcess">
            <a:avLst/>
          </a:prstGeom>
          <a:solidFill>
            <a:srgbClr val="0070c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lowchart: Process 10"/>
          <p:cNvSpPr/>
          <p:nvPr/>
        </p:nvSpPr>
        <p:spPr>
          <a:xfrm>
            <a:off x="4419720" y="2971800"/>
            <a:ext cx="75960" cy="914400"/>
          </a:xfrm>
          <a:prstGeom prst="flowChartProcess">
            <a:avLst/>
          </a:prstGeom>
          <a:solidFill>
            <a:srgbClr val="0070c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lowchart: Process 11"/>
          <p:cNvSpPr/>
          <p:nvPr/>
        </p:nvSpPr>
        <p:spPr>
          <a:xfrm>
            <a:off x="6172200" y="2971800"/>
            <a:ext cx="76320" cy="914400"/>
          </a:xfrm>
          <a:prstGeom prst="flowChartProcess">
            <a:avLst/>
          </a:prstGeom>
          <a:solidFill>
            <a:srgbClr val="0070c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lowchart: Process 12"/>
          <p:cNvSpPr/>
          <p:nvPr/>
        </p:nvSpPr>
        <p:spPr>
          <a:xfrm>
            <a:off x="7772400" y="2971800"/>
            <a:ext cx="76320" cy="914400"/>
          </a:xfrm>
          <a:prstGeom prst="flowChartProcess">
            <a:avLst/>
          </a:prstGeom>
          <a:solidFill>
            <a:srgbClr val="0070c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3352680" y="3886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Industrial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5181480" y="3886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Information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6934320" y="3886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ondi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000 B.C.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pprox. 1750 A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365760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750 –195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334120" y="2133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55 -  Pres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7010280" y="18288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 begin between the next 5-10 yea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onors.rit.edu/amitraywiki/images/8/8f/Assembl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4495680"/>
            <a:ext cx="1009800" cy="81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www.sonofthesouth.net/leefoundation/civil-war/1862/november/salt-factory.jpg"/>
          <p:cNvPicPr/>
          <p:nvPr/>
        </p:nvPicPr>
        <p:blipFill>
          <a:blip r:embed="rId5"/>
          <a:stretch/>
        </p:blipFill>
        <p:spPr>
          <a:xfrm>
            <a:off x="4038480" y="449568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ohgen.net/ohathens/eckfam.gif"/>
          <p:cNvPicPr/>
          <p:nvPr/>
        </p:nvPicPr>
        <p:blipFill>
          <a:blip r:embed="rId6"/>
          <a:stretch/>
        </p:blipFill>
        <p:spPr>
          <a:xfrm>
            <a:off x="3352680" y="5334120"/>
            <a:ext cx="1943280" cy="130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Users\tabitha\AppData\Local\Microsoft\Windows\Temporary Internet Files\Content.IE5\2LLY4F5Q\MPj04331850000[1].jpg"/>
          <p:cNvPicPr/>
          <p:nvPr/>
        </p:nvPicPr>
        <p:blipFill>
          <a:blip r:embed="rId7"/>
          <a:stretch/>
        </p:blipFill>
        <p:spPr>
          <a:xfrm>
            <a:off x="380880" y="4495680"/>
            <a:ext cx="142884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tabitha\AppData\Local\Microsoft\Windows\Temporary Internet Files\Content.IE5\68H9VII4\MPj02892030000[1].jpg"/>
          <p:cNvPicPr/>
          <p:nvPr/>
        </p:nvPicPr>
        <p:blipFill>
          <a:blip r:embed="rId8"/>
          <a:stretch/>
        </p:blipFill>
        <p:spPr>
          <a:xfrm>
            <a:off x="5638680" y="4800600"/>
            <a:ext cx="1150920" cy="905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tabitha\AppData\Local\Microsoft\Windows\Temporary Internet Files\Content.IE5\4B7I1KDH\MPj04432530000[1].jpg"/>
          <p:cNvPicPr/>
          <p:nvPr/>
        </p:nvPicPr>
        <p:blipFill>
          <a:blip r:embed="rId9"/>
          <a:stretch/>
        </p:blipFill>
        <p:spPr>
          <a:xfrm>
            <a:off x="7772400" y="4572000"/>
            <a:ext cx="171756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tabitha\AppData\Local\Microsoft\Windows\Temporary Internet Files\Content.IE5\2LLY4F5Q\MPj04387620000[1].jpg"/>
          <p:cNvPicPr/>
          <p:nvPr/>
        </p:nvPicPr>
        <p:blipFill>
          <a:blip r:embed="rId10"/>
          <a:stretch/>
        </p:blipFill>
        <p:spPr>
          <a:xfrm>
            <a:off x="7315200" y="5638680"/>
            <a:ext cx="169560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tabitha\AppData\Local\Microsoft\Windows\Temporary Internet Files\Content.IE5\2LLY4F5Q\MPj04442560000[1].jpg"/>
          <p:cNvPicPr/>
          <p:nvPr/>
        </p:nvPicPr>
        <p:blipFill>
          <a:blip r:embed="rId11"/>
          <a:stretch/>
        </p:blipFill>
        <p:spPr>
          <a:xfrm>
            <a:off x="6324480" y="5619600"/>
            <a:ext cx="822600" cy="1238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8"/>
          <p:cNvSpPr/>
          <p:nvPr/>
        </p:nvSpPr>
        <p:spPr>
          <a:xfrm>
            <a:off x="6019920" y="621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ot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22:33:37Z</dcterms:created>
  <dc:creator>tabitha</dc:creator>
  <dc:description/>
  <dc:language>en-US</dc:language>
  <cp:lastModifiedBy>tabitha</cp:lastModifiedBy>
  <dcterms:modified xsi:type="dcterms:W3CDTF">2009-12-20T22:48:22Z</dcterms:modified>
  <cp:revision>4</cp:revision>
  <dc:subject/>
  <dc:title>Time Line Project for Evolution of Educational Technology in Society, Education, and the Workplace  Instructor: Alan Foley</dc:title>
</cp:coreProperties>
</file>